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F044-8AE1-473B-AA57-71CA73130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2FE4-D388-46CB-B01D-373241BD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68E4-3FF3-4916-BAAC-FA39678B7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8DC3-D6A6-4382-9BBD-D86F25F4F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70A6-99BD-4439-8296-58EEFF801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4794-57F4-4736-B75F-202560D7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40EF-25CF-46B8-B73D-35C2FD4E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6111-9BE6-4DC3-B01F-ABC24AD7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70F5-7ECB-4958-9E1B-5687872D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AE69-7295-4A6E-B950-537EE182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F14F-750B-4B87-8A72-BFE7E0C6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8E22-46C0-4543-B416-C87F3716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F672-1ADC-4891-ACB5-889DC5BA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5A96-ED5B-4A23-B2B8-E3C04207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EE7E-B54E-4311-BE60-ECDE58F9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2A44-02EC-42B6-8BB0-7A86D6E15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A944-A3A1-419D-B2B7-3318F0CE5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27D4-F3A8-4939-BA9B-B95F6535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B1DF-97FC-4E94-9391-76523F0D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4286-4214-4C5A-A387-D0F31E78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211F-440E-4A38-BE52-2F49C366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0685-72EA-4AA8-861A-1C07E1B6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1D11-DC03-4CED-93D5-12575849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D430-9DC8-4C7B-A0B9-F70A740D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ECF5-E545-42A3-B620-1D9A27369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D061-3319-4C5D-A746-AA63127D8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n Integrated Solution for searching broadcast and web data in SAMB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ounia Lal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formation, Media and 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partment of Computer Sc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Queen Mary &amp; Westfield Colle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://www.dcs.qmw.ac.uk/~mou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AMB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ystem for Advanced Multimedia Broadcast and 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nstitut fuer Rundfunktechnik Gmb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uropean Broadcasting Un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ritish Broadcast Corpo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runel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inrich-Hertz-Institut für Nachrichtentechnik Berlin Gmb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PN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hilips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ueen Mary and Westfield Colle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iemens 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elenor 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MD - Forschungszentrum Informationstechnik Gmb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yerischer Rundf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2600" y="4191120"/>
            <a:ext cx="1809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t Hea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ounia Lalm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katerini Moutogian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Yakup Pa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lan Pear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48006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191120"/>
            <a:ext cx="17524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AMBITS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 develop Multimedia Studio Technology for off-line and real-time design of new interactive multimedia services containing MPEG-4 and MPEG-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b2b2b2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 develop Multimedia Terminal Technology for access to these new interactive multimedia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grated Broadcast/Internet Service with personalised inform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b2b2b2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 implement and test service examples/sce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00"/>
              </a:spcBef>
              <a:buClr>
                <a:srgbClr val="b2b2b2"/>
              </a:buClr>
              <a:buSzPct val="7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-comme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00"/>
              </a:spcBef>
              <a:buClr>
                <a:srgbClr val="b2b2b2"/>
              </a:buClr>
              <a:buSzPct val="7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ducational 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00"/>
              </a:spcBef>
              <a:buClr>
                <a:srgbClr val="b2b2b2"/>
              </a:buClr>
              <a:buSzPct val="7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ustomed-made information delive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3048120"/>
            <a:ext cx="74674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AMBITS com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54960" y="4076640"/>
            <a:ext cx="95040" cy="168480"/>
          </a:xfrm>
          <a:custGeom>
            <a:avLst/>
            <a:gdLst/>
            <a:ahLst/>
            <a:rect l="l" t="t" r="r" b="b"/>
            <a:pathLst>
              <a:path w="60" h="106">
                <a:moveTo>
                  <a:pt x="55" y="0"/>
                </a:moveTo>
                <a:lnTo>
                  <a:pt x="60" y="106"/>
                </a:lnTo>
                <a:lnTo>
                  <a:pt x="38" y="70"/>
                </a:lnTo>
                <a:lnTo>
                  <a:pt x="0" y="78"/>
                </a:lnTo>
                <a:lnTo>
                  <a:pt x="5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97800" y="4076640"/>
            <a:ext cx="938160" cy="874800"/>
          </a:xfrm>
          <a:custGeom>
            <a:avLst/>
            <a:gdLst/>
            <a:ahLst/>
            <a:rect l="l" t="t" r="r" b="b"/>
            <a:pathLst>
              <a:path w="591" h="551">
                <a:moveTo>
                  <a:pt x="564" y="7"/>
                </a:moveTo>
                <a:lnTo>
                  <a:pt x="575" y="42"/>
                </a:lnTo>
                <a:lnTo>
                  <a:pt x="586" y="84"/>
                </a:lnTo>
                <a:lnTo>
                  <a:pt x="591" y="169"/>
                </a:lnTo>
                <a:lnTo>
                  <a:pt x="586" y="247"/>
                </a:lnTo>
                <a:lnTo>
                  <a:pt x="570" y="318"/>
                </a:lnTo>
                <a:lnTo>
                  <a:pt x="542" y="381"/>
                </a:lnTo>
                <a:lnTo>
                  <a:pt x="504" y="438"/>
                </a:lnTo>
                <a:lnTo>
                  <a:pt x="460" y="487"/>
                </a:lnTo>
                <a:lnTo>
                  <a:pt x="411" y="522"/>
                </a:lnTo>
                <a:lnTo>
                  <a:pt x="356" y="544"/>
                </a:lnTo>
                <a:lnTo>
                  <a:pt x="296" y="551"/>
                </a:lnTo>
                <a:lnTo>
                  <a:pt x="236" y="544"/>
                </a:lnTo>
                <a:lnTo>
                  <a:pt x="181" y="522"/>
                </a:lnTo>
                <a:lnTo>
                  <a:pt x="132" y="487"/>
                </a:lnTo>
                <a:lnTo>
                  <a:pt x="88" y="438"/>
                </a:lnTo>
                <a:lnTo>
                  <a:pt x="50" y="381"/>
                </a:lnTo>
                <a:lnTo>
                  <a:pt x="22" y="318"/>
                </a:lnTo>
                <a:lnTo>
                  <a:pt x="6" y="247"/>
                </a:lnTo>
                <a:lnTo>
                  <a:pt x="0" y="169"/>
                </a:lnTo>
                <a:lnTo>
                  <a:pt x="0" y="127"/>
                </a:lnTo>
                <a:lnTo>
                  <a:pt x="6" y="84"/>
                </a:lnTo>
                <a:lnTo>
                  <a:pt x="28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36720" y="2730600"/>
            <a:ext cx="1833480" cy="1401840"/>
          </a:xfrm>
          <a:prstGeom prst="rect">
            <a:avLst/>
          </a:prstGeom>
          <a:solidFill>
            <a:srgbClr val="dddddd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76920" y="2697120"/>
            <a:ext cx="1833840" cy="1390680"/>
          </a:xfrm>
          <a:prstGeom prst="rect">
            <a:avLst/>
          </a:prstGeom>
          <a:solidFill>
            <a:srgbClr val="dddddd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30800" y="2730600"/>
            <a:ext cx="1833480" cy="1401840"/>
          </a:xfrm>
          <a:prstGeom prst="rect">
            <a:avLst/>
          </a:prstGeom>
          <a:solidFill>
            <a:srgbClr val="dddddd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62280" y="3425760"/>
            <a:ext cx="27000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64240" y="3335400"/>
            <a:ext cx="122400" cy="135000"/>
          </a:xfrm>
          <a:custGeom>
            <a:avLst/>
            <a:gdLst/>
            <a:ahLst/>
            <a:rect l="l" t="t" r="r" b="b"/>
            <a:pathLst>
              <a:path w="77" h="85">
                <a:moveTo>
                  <a:pt x="77" y="43"/>
                </a:moveTo>
                <a:lnTo>
                  <a:pt x="0" y="85"/>
                </a:lnTo>
                <a:lnTo>
                  <a:pt x="16" y="43"/>
                </a:lnTo>
                <a:lnTo>
                  <a:pt x="0" y="0"/>
                </a:lnTo>
                <a:lnTo>
                  <a:pt x="77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03720" y="4121280"/>
            <a:ext cx="104760" cy="15696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0"/>
                </a:moveTo>
                <a:lnTo>
                  <a:pt x="66" y="99"/>
                </a:lnTo>
                <a:lnTo>
                  <a:pt x="33" y="78"/>
                </a:lnTo>
                <a:lnTo>
                  <a:pt x="0" y="99"/>
                </a:lnTo>
                <a:lnTo>
                  <a:pt x="3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46640" y="3403440"/>
            <a:ext cx="54000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56280" y="4121280"/>
            <a:ext cx="1695240" cy="72864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12400" y="207504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39480" y="2075040"/>
            <a:ext cx="96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32000" y="207504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35320" y="207504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38640" y="207504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97320" y="2075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12520" y="2075040"/>
            <a:ext cx="96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04680" y="2075040"/>
            <a:ext cx="96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26880" y="207504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78440" y="207504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81760" y="2075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897680" y="20750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978680" y="2075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093880" y="2075040"/>
            <a:ext cx="180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67040" y="2075040"/>
            <a:ext cx="96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59200" y="2075040"/>
            <a:ext cx="96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66640" y="307800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12800" y="30780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5600" y="3078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41680" y="3078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85960" y="3078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32040" y="3078000"/>
            <a:ext cx="128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60200" y="3078000"/>
            <a:ext cx="73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33280" y="30780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14640" y="3078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60360" y="3078000"/>
            <a:ext cx="73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32240" y="33037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22600" y="33037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68320" y="33037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50760" y="33037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33560" y="33037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77840" y="33037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14600" y="35164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04960" y="35164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87040" y="351648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51120" y="35164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96840" y="3516480"/>
            <a:ext cx="73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70280" y="3516480"/>
            <a:ext cx="128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214760" y="303372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360920" y="30337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443720" y="30337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89800" y="30337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534080" y="30337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80160" y="3033720"/>
            <a:ext cx="128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708680" y="3033720"/>
            <a:ext cx="73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81760" y="30337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864560" y="30337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908480" y="3033720"/>
            <a:ext cx="73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92880" y="3259080"/>
            <a:ext cx="10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94040" y="3259080"/>
            <a:ext cx="73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67480" y="325908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21480" y="3259080"/>
            <a:ext cx="128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50000" y="32590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94280" y="32590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76720" y="3259080"/>
            <a:ext cx="73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850160" y="32590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54800" y="34830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445160" y="34830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27240" y="348300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91320" y="3483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37040" y="3483000"/>
            <a:ext cx="73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710480" y="3483000"/>
            <a:ext cx="128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782600" y="3191040"/>
            <a:ext cx="110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92760" y="319104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46400" y="31910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8840" y="3191040"/>
            <a:ext cx="73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01920" y="31910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84360" y="3191040"/>
            <a:ext cx="73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57440" y="3191040"/>
            <a:ext cx="73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0160" y="319104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94240" y="31910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38520" y="319104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79560" y="3191040"/>
            <a:ext cx="73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53000" y="31910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35440" y="31910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65680" y="340344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19320" y="34034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02120" y="34034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46400" y="3403440"/>
            <a:ext cx="73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19840" y="340344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74920" y="34034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57360" y="3403440"/>
            <a:ext cx="73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30800" y="34034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75080" y="340344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16480" y="34034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08280" y="3403440"/>
            <a:ext cx="73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81720" y="340344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35360" y="34034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17800" y="3403440"/>
            <a:ext cx="73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691240" y="340344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10200" y="3357720"/>
            <a:ext cx="120600" cy="134640"/>
          </a:xfrm>
          <a:custGeom>
            <a:avLst/>
            <a:gdLst/>
            <a:ahLst/>
            <a:rect l="l" t="t" r="r" b="b"/>
            <a:pathLst>
              <a:path w="76" h="85">
                <a:moveTo>
                  <a:pt x="76" y="43"/>
                </a:moveTo>
                <a:lnTo>
                  <a:pt x="0" y="85"/>
                </a:lnTo>
                <a:lnTo>
                  <a:pt x="16" y="43"/>
                </a:lnTo>
                <a:lnTo>
                  <a:pt x="0" y="0"/>
                </a:lnTo>
                <a:lnTo>
                  <a:pt x="76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00680" y="3425760"/>
            <a:ext cx="3301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3904920" y="3257640"/>
            <a:ext cx="174600" cy="3585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3827160" y="3257640"/>
            <a:ext cx="173160" cy="3585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46400" y="4087800"/>
            <a:ext cx="95040" cy="168120"/>
          </a:xfrm>
          <a:custGeom>
            <a:avLst/>
            <a:gdLst/>
            <a:ahLst/>
            <a:rect l="l" t="t" r="r" b="b"/>
            <a:pathLst>
              <a:path w="60" h="106">
                <a:moveTo>
                  <a:pt x="54" y="0"/>
                </a:moveTo>
                <a:lnTo>
                  <a:pt x="60" y="106"/>
                </a:lnTo>
                <a:lnTo>
                  <a:pt x="38" y="71"/>
                </a:lnTo>
                <a:lnTo>
                  <a:pt x="0" y="77"/>
                </a:lnTo>
                <a:lnTo>
                  <a:pt x="5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9240" y="4087800"/>
            <a:ext cx="938160" cy="874800"/>
          </a:xfrm>
          <a:custGeom>
            <a:avLst/>
            <a:gdLst/>
            <a:ahLst/>
            <a:rect l="l" t="t" r="r" b="b"/>
            <a:pathLst>
              <a:path w="591" h="551">
                <a:moveTo>
                  <a:pt x="564" y="7"/>
                </a:moveTo>
                <a:lnTo>
                  <a:pt x="586" y="92"/>
                </a:lnTo>
                <a:lnTo>
                  <a:pt x="591" y="169"/>
                </a:lnTo>
                <a:lnTo>
                  <a:pt x="586" y="247"/>
                </a:lnTo>
                <a:lnTo>
                  <a:pt x="569" y="318"/>
                </a:lnTo>
                <a:lnTo>
                  <a:pt x="542" y="381"/>
                </a:lnTo>
                <a:lnTo>
                  <a:pt x="504" y="438"/>
                </a:lnTo>
                <a:lnTo>
                  <a:pt x="460" y="487"/>
                </a:lnTo>
                <a:lnTo>
                  <a:pt x="411" y="523"/>
                </a:lnTo>
                <a:lnTo>
                  <a:pt x="356" y="544"/>
                </a:lnTo>
                <a:lnTo>
                  <a:pt x="295" y="551"/>
                </a:lnTo>
                <a:lnTo>
                  <a:pt x="235" y="544"/>
                </a:lnTo>
                <a:lnTo>
                  <a:pt x="180" y="523"/>
                </a:lnTo>
                <a:lnTo>
                  <a:pt x="131" y="487"/>
                </a:lnTo>
                <a:lnTo>
                  <a:pt x="88" y="438"/>
                </a:lnTo>
                <a:lnTo>
                  <a:pt x="49" y="381"/>
                </a:lnTo>
                <a:lnTo>
                  <a:pt x="22" y="318"/>
                </a:lnTo>
                <a:lnTo>
                  <a:pt x="5" y="247"/>
                </a:lnTo>
                <a:lnTo>
                  <a:pt x="0" y="169"/>
                </a:lnTo>
                <a:lnTo>
                  <a:pt x="5" y="84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68920" y="520056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98880" y="520056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80240" y="5200560"/>
            <a:ext cx="15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30360" y="520056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120720" y="520056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83360" y="520056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28880" y="544824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00520" y="54482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00240" y="544824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61080" y="544824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841720" y="544824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922360" y="54482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3440" y="544824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3720" y="544824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53840" y="544824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04960" y="54482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295680" y="54482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22520" y="522288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644200" y="522288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735280" y="522288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13760" y="522288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905920" y="522288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96800" y="548172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68080" y="54817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68160" y="548172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28640" y="548172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609640" y="548172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89920" y="54817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81360" y="548172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61640" y="548172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921760" y="548172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971080" y="54817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63600" y="54817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075520" y="520056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195400" y="520056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286480" y="520056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67120" y="520056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457480" y="520056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857720" y="544824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929360" y="54482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029080" y="544824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089920" y="544824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170920" y="544824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251200" y="54482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342280" y="544824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422560" y="544824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483040" y="544824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532000" y="54482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624520" y="54482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98480" y="3346560"/>
            <a:ext cx="120960" cy="135000"/>
          </a:xfrm>
          <a:custGeom>
            <a:avLst/>
            <a:gdLst/>
            <a:ahLst/>
            <a:rect l="l" t="t" r="r" b="b"/>
            <a:pathLst>
              <a:path w="76" h="85">
                <a:moveTo>
                  <a:pt x="76" y="43"/>
                </a:moveTo>
                <a:lnTo>
                  <a:pt x="0" y="85"/>
                </a:lnTo>
                <a:lnTo>
                  <a:pt x="16" y="43"/>
                </a:lnTo>
                <a:lnTo>
                  <a:pt x="0" y="0"/>
                </a:lnTo>
                <a:lnTo>
                  <a:pt x="76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03480" y="3414600"/>
            <a:ext cx="61596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28360" y="36640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29520" y="366408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19880" y="366408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10600" y="366408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71440" y="366408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52440" y="366408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33080" y="366408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28000" y="392112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88840" y="392112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19880" y="392112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71000" y="39211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62080" y="392112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42360" y="39211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33440" y="392112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8720" y="416880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959760" y="416880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020600" y="416880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00880" y="416880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191600" y="416880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81960" y="416880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33440" y="416880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12640" y="416880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84280" y="416880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28720" y="442584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59760" y="44258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050120" y="44258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140840" y="442584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91600" y="44258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82680" y="442584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28720" y="467352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49320" y="467352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29960" y="4673520"/>
            <a:ext cx="14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170720" y="46735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61440" y="467352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12920" y="467352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393200" y="467352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42160" y="46735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8000" y="49309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18720" y="493092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78840" y="49309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71360" y="493092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50920" y="493092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231560" y="493092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346400" y="493092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16600" y="493092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496160" y="49309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71920" y="517860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51480" y="517860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042200" y="517860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34000" y="517860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184760" y="517860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64320" y="517860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56480" y="517860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06520" y="517860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10480" y="207504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438280" y="2075040"/>
            <a:ext cx="96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29720" y="207504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634840" y="2075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49320" y="2075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65240" y="2075040"/>
            <a:ext cx="96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957400" y="2075040"/>
            <a:ext cx="96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049560" y="2075040"/>
            <a:ext cx="96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arching MPEG7 and web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egrated search of Internet and Broadcas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r profiles/pre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avigation 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Query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row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ternet, MPEG2, MPEG4, MPEG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ser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ardware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774560" y="19810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219320" y="3657600"/>
            <a:ext cx="20574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170400" y="388620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cussed retri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3276360" y="411480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219320" y="1828800"/>
            <a:ext cx="53337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6552720" y="2209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mantics for Integ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a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PEG7, 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terna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nks in web data, MPEG7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MPEG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reator, E-commerce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milar broadcast programs, broadcast programs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web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ySpir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obabilistic deductive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O (frame) representation and retrieval of complex objec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tegration of retrieval and database technolo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ogical platform for experiments on models and heterogeneous da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dvanced knowledge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ypermedia (XML, SGML, HTML) doc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eterogeneous documents (HTML, MPEG7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lational or object-oriented database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ser pro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ules, content, f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ague concept formul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ncertain inference, uncertain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formation (fact) extractio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3T14:09:29Z</dcterms:created>
  <dc:creator>Mounia Lalmas</dc:creator>
  <dc:description/>
  <dc:language>en-US</dc:language>
  <cp:lastModifiedBy>Stefan Decker</cp:lastModifiedBy>
  <cp:lastPrinted>2000-03-13T16:52:30Z</cp:lastPrinted>
  <dcterms:modified xsi:type="dcterms:W3CDTF">2000-05-16T17:31:04Z</dcterms:modified>
  <cp:revision>22</cp:revision>
  <dc:subject/>
  <dc:title>An Integrated Solution for searching broadcast and web data in SAMBITS</dc:title>
</cp:coreProperties>
</file>